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5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wmf" ContentType="image/x-wmf"/>
  <Override PartName="/ppt/media/image5.png" ContentType="image/png"/>
  <Override PartName="/ppt/media/image30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32.jpeg" ContentType="image/jpeg"/>
  <Override PartName="/ppt/media/image20.wmf" ContentType="image/x-wmf"/>
  <Override PartName="/ppt/media/image17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98C-70DE-4174-AC3D-DA7528DFD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23A-5840-48C2-A9D0-CB11805D22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7C6E-3A43-4BFB-B049-F5C82648E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E28D-3032-472C-9F93-0E3A8B1A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ерия находится в капельках легочной жидкости выдыхаемой человеком с активным легочным туберкулезом, которые может вдохнуть находящийся поблизости человек. Туберкулез передается исключительно от людей с активным легочным туберкулезом, обычно когда этот человек чихает, кашляет или разговаривает. Если у человека латентный туберкулез, либо внелегочная форма туберкулеза бактерия не может передаться от него другому человеку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пав в легкие, бактерия начинает размножаться. Однако у большинства людей (90-95%) иммунная система достаточно здорова и туберклез остается латентным, то есть заболевание не развивается. У людей с ВИЧ иммунная система может потерять контроль над бактерией: в результате бактерия начнет распространятся по организму и разовьется активная форма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DFD3-2C2F-49B4-BC24-5151C970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пав в легкие, бактерия начинает размножаться. Однако у большинства людей (90-95%) иммунная система достаточно здорова и туберкyлез остается латентным, то есть заболевание не развивается. У людей с ВИЧ иммунная система может потерять контроль над бактерией: в результате бактерия начнет распространятся по организму и разовьется активная форма туберкулеза. Заболевание может перейти в активную форму через несколько месяцев или через много лет. Другими словами Mycobacterium tuberculosis может многие годы находится в организме человека, но она становится активной и вызывает туберкулез только при ослаблении работы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30ED-B619-4079-9D2C-45BA7A6E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о объяснить дальнейшие шаги которые должен сделать аутрич работник при наличии данных симптомов – «гигиена» кашля, куда направить клиента,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250E-F4E2-432B-98D2-A2C999F2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ы оценочные данные ВОЗ (Глобальный Отчет за 2009 г)по количеству заболевших туберкулезом в странах мира. Количество больных варируется от низкой до 999 заболевших (обозначен серым цветом) до более 1 000 000 случаев ( обозначен красным цвет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5D0F-2386-4439-8310-BFA52FF5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инфицированные люди заболевают активной формой туберкулеза, только 10% из них в течении жизни заболевают туберкулезом.  Переход от инфицирования к заболеванию зависит от состояния иммуной системы, такие факторы как стресс, заболевания снижающее иммунитет (ВИЧ, сахарный диабет, тиретоксикоз и т.д) приводят к активированию латет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что такое МЛУ ТБ и ШЛУ Т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а рекомендация представить данные в более «эмоциональном ключе» например – в 2008 году от туберкулеза каждый день погибло около 5000 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473-EF4A-4CFC-A366-4C149F33A2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5B8-F4A1-4793-82F4-02CD059083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BEF-2821-4CDF-94E0-C0FEC452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471-BF42-49E7-980F-3EEAAFE6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DFE-37E0-47F9-A91F-C4CF6C92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499-5D69-4370-8830-1256EC45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AAE-258D-4F94-99C8-B31EBFCD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1C2E-AB94-4719-95AE-C5BD4C9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4DA8-9A8D-48EC-B7C6-E8232F7F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C65-6587-4F9D-B48C-EF9465B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05F1-4D32-43C6-976B-AF85316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1FB5-E97E-4C66-94C8-A7819154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7D89-C018-462A-B50A-FE51011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859-106A-4C01-89F7-64111E9F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8CB-7C89-4D4C-A775-3933CA4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2017-41EF-4DBB-8990-F97EFAF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DC0A-EDE2-440B-969B-5946CE04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95E-6FE1-4F93-A805-6F11B1A5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6BFF-4293-4DC8-BC3B-A3526088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4075-82A3-47A1-AF38-C03C4EBF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5E56-9408-4B7C-91BB-D6A37E83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8ED6-1B5C-4B64-BE52-3F88DF98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E571-D6DE-41BA-89BC-1D11AB1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683F-2913-4D02-8F2D-5170EB1E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D24-DC74-48E8-93F9-45EAA42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ED57-563C-4631-9F9F-B1D7D213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F177-9FE0-418D-832E-30AECE30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4ABB-6F7C-4794-8535-527416C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DDBF-BFD5-44A2-BBA7-8C12619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F811-C212-48D2-BEC6-7798687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B06E-41EE-479C-896D-8996D651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1A8F-D73F-4246-94DF-C67DFBB5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AEC-4231-4431-8663-2B971EB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B96-6CD3-4FC4-96EF-DD760B5A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945-C01B-46A6-AB38-2503AEEF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8F8-910D-4F55-B17E-C255266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506-6CAC-41BA-BAFB-099AF66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FB8-3059-4A1E-A364-A7087D5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DF2D-264B-46FB-A5D2-72CAED7B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F9AE-1D1E-4815-A3EF-BCE5080B7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28AD-78DE-453F-86B1-42E03F5E4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УБЕРКУЛЕЗ – БОЛЕЗНЬ убивающая МЕЧ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Главный врач Лениногорского противотуберкулезного диспанс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Хамитов Булат Рамзие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28.03.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временная концепция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рганизации  противотуберкулезной помощи детскому населению Ро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ачественная вакцинопрофилактика туберкулеза новорожд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лноценное флюорографическое обследование окружения новорожд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ыявление пациентов с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наибольши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риском        заболевания туберкул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ведение контролируемого лечения детей с различными проявлениями туберкулезной инфекции в диспансерах и санатор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лноценная изоляция детей из туберкулезных очагов в противотуберкулёзные сан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казатель заболеваемости детей наиболее информативен и достоверно отражает обстановку по туберкулезу в доме! городе! Стране!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то «счетчик Гейгера, лакмусовая бумага», с чуткой реакцией на изменений эпидемиологической обстановки в ц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6b6bcf"/>
                </a:solidFill>
                <a:latin typeface="Arial"/>
              </a:rPr>
              <a:t>Заболеваемость детей 0-14 лет туберкулезом в РТ в сравнении с РФ, ПФО за 2007-2016гг </a:t>
            </a:r>
            <a:br>
              <a:rPr sz="2300"/>
            </a:br>
            <a:r>
              <a:rPr b="1" lang="ru-RU" sz="2300" spc="-1" strike="noStrike">
                <a:solidFill>
                  <a:srgbClr val="6b6bcf"/>
                </a:solidFill>
                <a:latin typeface="Arial"/>
              </a:rPr>
              <a:t>(на 100 тыс. населения</a:t>
            </a:r>
            <a:r>
              <a:rPr b="1" lang="ru-RU" sz="23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304920" y="838080"/>
          <a:ext cx="8727840" cy="586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7278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5200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озрастная структура заболеваемости туберкулезом в 2015-2016гг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Объект 7"/>
          <p:cNvGraphicFramePr/>
          <p:nvPr/>
        </p:nvGraphicFramePr>
        <p:xfrm>
          <a:off x="457200" y="2109960"/>
          <a:ext cx="402120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09960"/>
                    <a:ext cx="402120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Диаграмма 12"/>
          <p:cNvGraphicFramePr/>
          <p:nvPr/>
        </p:nvGraphicFramePr>
        <p:xfrm>
          <a:off x="4737240" y="1879560"/>
          <a:ext cx="394164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" name="Диаграмма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7240" y="1879560"/>
                    <a:ext cx="394164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Box 14"/>
          <p:cNvSpPr/>
          <p:nvPr/>
        </p:nvSpPr>
        <p:spPr>
          <a:xfrm>
            <a:off x="20145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5975280" y="1790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новные оперативные задачи детской фтизиатрической службы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4792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Профилактика туберкулеза среди детей раннего возраста (полностью ликвидировать отказы от вакцинации БЦЖ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Совместная работа взрослых и детских фтизиатров по предупреждению заболеваемости детей в очагах туб.инфекции согласно СП 3.1.2.3114-13 «Профилактика туберкулеза» (изоляция больного до полного выздоравлен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Arial"/>
              </a:rPr>
              <a:t>Обеспечить проведение иммунодиагностики туберкулезной инфекции у детей в полном объеме (усиление работы комиссии по делам несовершеннолетних с родителями отказниками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то такое туберкуле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457200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уберкулез — инфекционное заболевание, которое вызывается микобактериями туберкулеза (Mycobacter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berculosi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vi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известно более 74  разновидностей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 ни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атогенным вида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относятся возбудители туберкулез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uberculosis, M.bovi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.africanum,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 также возбудитель проказы –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.leprae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до 25 видов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нетуберкулезных микобактерий являются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отенциально патогенным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возбудителями микобактериозов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 которых основным является комплек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.avium-intracellulare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стальные виды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нетуберкулезных микобактерий относятся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к сапрофи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886200" cy="2489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5029200" y="1316160"/>
            <a:ext cx="3429000" cy="23414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H="1">
            <a:off x="7924680" y="28954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Характеристик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озбудителя туберкуле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збудитель туберкулез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открытый   Р. Кохом в 1882 г, относ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 семейству лучистых грибов 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ctinomycetes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оду микобактерий 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cobacterium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войства микобактерии туберкулез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стойчивость к действию кислот и спи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храняют жизнеспособность при воздействии различных физических и химических аг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 влажной мокроте (при определенных условиях) бактерии Коха могут оставаться жизнеспособными до полу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высохшей мокроте на различных предметах  (мебель, книги, посуда, постельное белье, полотенца, пол,  стены и пр.) они могут сохранять свои свойства в  течение нескольких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ыживаемость микобактерий на отдельных предметах внешней сре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5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сохшая мокрота                                     годы (в темно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дметы домашней обстановки            меся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личная пыль                                             10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траницы книг                                           3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воз                                                             4-5 меся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чва, трупы после захоронения            1-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екалии животных на пастбищах         до 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сло и сыры в                                          8-10 мес.                                  условиях холоди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ырое молоко                                             до 2 не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мораживание при температуре           до 8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о -180° С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Губительно действуют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 палочку Кох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нечный свет и УФИ                   5-1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сеянный свет                             не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рямой солнечный свет                 1-2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астеризация при 85°                     3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ипячение                                        5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-5-% р-р хлорамина                       5 часов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уберкулеза в мире и реги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туберкул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передается туберкул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развивается заболе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знаки туберку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одательство по защите детских и подростковых коллективов от заболеваний Т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алочка Коха в организ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иводит к изменению состояния иммунн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ыстро размножается  и питается человеческими тканями, разрушая и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месте с кровью и лимфой она может распространяться по всему организ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травляет организм человека продуктами своей жизне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се это может привести к гибели всего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ажная особенность палочки Ко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142640"/>
            <a:ext cx="871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сле первичного заражения заболевание развивается не всегда, потому что микобактерия туберкулёза может  длительное время (годы, десятилетия) находиться в организ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 причиняя ему вре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акое состояние относительного равновесия может нарушиться в пользу возбудителя при снижении защитных сил 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(снижение иммуните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ица восприимчивые к заболеванию туберкулез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ети младшего и школьного возраста, в том числе не привитые в род д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дро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ИЧ инфиц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ца, страдающие алкоголизмом, наркома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еременные, женщины в послеродов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ица с хроническими заболеваниями органов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ольные с дефицитом иммунной системы (с сахарным диабетом, язвенной болезнью, длительно принимающие гормоны и иммунодепрессан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игр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ути передачи туберкул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шно-капельный, пищевой, контакт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будитель туберкулеза распространяется по воздуху при кашле, чихании, громком разго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ной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ытой формой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чения может заразить 10-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#2 Animation"/>
          <p:cNvPicPr/>
          <p:nvPr/>
        </p:nvPicPr>
        <p:blipFill>
          <a:blip r:embed="rId1"/>
          <a:stretch/>
        </p:blipFill>
        <p:spPr>
          <a:xfrm>
            <a:off x="5410080" y="1295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M130814-Man_sneezing-SPL"/>
          <p:cNvPicPr/>
          <p:nvPr/>
        </p:nvPicPr>
        <p:blipFill>
          <a:blip r:embed="rId2"/>
          <a:stretch/>
        </p:blipFill>
        <p:spPr>
          <a:xfrm>
            <a:off x="6019920" y="35812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M130797-Man_sneezing-SPL"/>
          <p:cNvPicPr/>
          <p:nvPr/>
        </p:nvPicPr>
        <p:blipFill>
          <a:blip r:embed="rId3"/>
          <a:stretch/>
        </p:blipFill>
        <p:spPr>
          <a:xfrm>
            <a:off x="3886200" y="5156280"/>
            <a:ext cx="28195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ой путь заражения туберкуле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новной путь передачи туберкулеза воздушно-капельный в результате конта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емейного  (самый опасный, тем, что  он постоянный и близ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фессион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лучай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5410080" y="1905120"/>
          <a:ext cx="350532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905120"/>
                    <a:ext cx="3505320" cy="3162240"/>
                  </a:xfrm>
                  <a:prstGeom prst="rect">
                    <a:avLst/>
                  </a:prstGeom>
                  <a:ln w="57240">
                    <a:solidFill>
                      <a:srgbClr val="99cc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к развивается заболев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1"/>
          <p:cNvPicPr/>
          <p:nvPr/>
        </p:nvPicPr>
        <p:blipFill>
          <a:blip r:embed="rId1"/>
          <a:srcRect l="23754" t="37832" r="37008" b="36445"/>
          <a:stretch/>
        </p:blipFill>
        <p:spPr>
          <a:xfrm>
            <a:off x="152280" y="1523880"/>
            <a:ext cx="4480200" cy="45309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4724280" y="1600200"/>
            <a:ext cx="41911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пельки мокроты с возбудителем  туберкулеза попадают в легкие вдохнувшего их человека  и оседают в дыхательных путях, тканях лег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428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ак развивается заболев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иммунитет инфицированного туберкулезом организма ослабевает, туберкулезные 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инают размножа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вается боле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лезнь может развиваться от нескольких дней до нескольких десятиле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% из всех инфицированных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ей, заболеваю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зом в течение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ВИЧ инфицированных людей 10% заболеют в первые 2 года после контакта с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5988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14868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аиболее опасно заражение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 раннем детском возрасте,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в котором у детей могут развиваться 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генерализованные, прогрессирующие формы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 возрасте 7-14 лет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дети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более устойчивы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к туберкулезной инфекции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и заражение реже приводит к заболеванию. Если же заболевание и развивается, то оно протекает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благоприятнее и при лечении заканчивается выздоровлением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 возрасте 14-16 лет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аступает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снижение сопротивляемост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организма,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на фоне которой у инфицированных ранее происходит </a:t>
            </a:r>
            <a:br>
              <a:rPr sz="2400"/>
            </a:b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реактивация первичной инфекции (вторичный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уберкулез)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а само заболевание протекает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тяжело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В юношеском и молодом возрасте (до 25 лет)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наиболее часто происходит обострение первичной эндогенной инфекции. В этом возрасте одновременно повышается восприимчивость и к экзогенной туберкулезной инфекции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В зрелом возрасте 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 наиболее высокая сопротивляемость к туберкулезу, которая снова снижается у пожилых и стариков. У них туберкулез чаще протекает в виде хронических фиброзно-кавернозных форм, иногда без выраженных клинических симптомов и поэтому остается нераспозна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имптомы туберку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наки относящиеся к органам дых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шель более 2-х не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и в груд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ыш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овохаркань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чие призна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еря массы те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омляем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хора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чные п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еря аппети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полнительно - Признаки в зависимости от места по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circle"/>
          <p:cNvPicPr/>
          <p:nvPr/>
        </p:nvPicPr>
        <p:blipFill>
          <a:blip r:embed="rId1"/>
          <a:stretch/>
        </p:blipFill>
        <p:spPr>
          <a:xfrm>
            <a:off x="4419720" y="1981080"/>
            <a:ext cx="4267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rcRect l="1963" t="0" r="0" b="0"/>
          <a:stretch/>
        </p:blipFill>
        <p:spPr>
          <a:xfrm>
            <a:off x="88920" y="990720"/>
            <a:ext cx="8964720" cy="5484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блема туберку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5520" y="333000"/>
            <a:ext cx="88329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оящее и будущее в диагностике:</a:t>
            </a:r>
            <a:br>
              <a:rPr sz="32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явились новые технологии выявления и диагностики туберкулезной 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0" y="1557360"/>
            <a:ext cx="2716200" cy="18730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р. МАН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Впервые положительная, нарастание, гиперер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Блок-схема: процесс 4"/>
          <p:cNvGrpSpPr/>
          <p:nvPr/>
        </p:nvGrpSpPr>
        <p:grpSpPr>
          <a:xfrm>
            <a:off x="3276720" y="1916280"/>
            <a:ext cx="2736720" cy="1368360"/>
            <a:chOff x="3276720" y="1916280"/>
            <a:chExt cx="2736720" cy="1368360"/>
          </a:xfrm>
        </p:grpSpPr>
        <p:pic>
          <p:nvPicPr>
            <p:cNvPr id="210" name="Блок-схема: процесс 4" descr=""/>
            <p:cNvPicPr/>
            <p:nvPr/>
          </p:nvPicPr>
          <p:blipFill>
            <a:blip r:embed="rId1"/>
            <a:stretch/>
          </p:blipFill>
          <p:spPr>
            <a:xfrm>
              <a:off x="3276720" y="1916280"/>
              <a:ext cx="2736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6"/>
            <p:cNvSpPr/>
            <p:nvPr/>
          </p:nvSpPr>
          <p:spPr>
            <a:xfrm>
              <a:off x="3337920" y="1938240"/>
              <a:ext cx="2547720" cy="1301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buClr>
                  <a:srgbClr val="8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ДИАСКИНТЕСТ®,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TB-sp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Овал 5"/>
          <p:cNvGrpSpPr/>
          <p:nvPr/>
        </p:nvGrpSpPr>
        <p:grpSpPr>
          <a:xfrm>
            <a:off x="6802560" y="1773360"/>
            <a:ext cx="2073240" cy="1646280"/>
            <a:chOff x="6802560" y="1773360"/>
            <a:chExt cx="2073240" cy="1646280"/>
          </a:xfrm>
        </p:grpSpPr>
        <p:pic>
          <p:nvPicPr>
            <p:cNvPr id="213" name="Овал 5" descr=""/>
            <p:cNvPicPr/>
            <p:nvPr/>
          </p:nvPicPr>
          <p:blipFill>
            <a:blip r:embed="rId2"/>
            <a:stretch/>
          </p:blipFill>
          <p:spPr>
            <a:xfrm>
              <a:off x="6802560" y="1773360"/>
              <a:ext cx="20732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147080" y="2028960"/>
              <a:ext cx="138420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Arial"/>
                </a:rPr>
                <a:t>КТ, МС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оугольник 8"/>
          <p:cNvGrpSpPr/>
          <p:nvPr/>
        </p:nvGrpSpPr>
        <p:grpSpPr>
          <a:xfrm>
            <a:off x="743040" y="4492800"/>
            <a:ext cx="2847960" cy="1511280"/>
            <a:chOff x="743040" y="4492800"/>
            <a:chExt cx="2847960" cy="1511280"/>
          </a:xfrm>
        </p:grpSpPr>
        <p:pic>
          <p:nvPicPr>
            <p:cNvPr id="216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43040" y="4492800"/>
              <a:ext cx="28479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800280" y="4519440"/>
              <a:ext cx="273672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Формирование новых групп ри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8" name="Соединительная линия уступом 11"/>
          <p:cNvCxnSpPr/>
          <p:nvPr/>
        </p:nvCxnSpPr>
        <p:spPr>
          <a:xfrm rot="5400000">
            <a:off x="3213360" y="3641040"/>
            <a:ext cx="858240" cy="722520"/>
          </a:xfrm>
          <a:prstGeom prst="bentConnector3">
            <a:avLst>
              <a:gd name="adj1" fmla="val 50146"/>
            </a:avLst>
          </a:prstGeom>
          <a:ln w="572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219" name="Прямоугольник 22"/>
          <p:cNvGrpSpPr/>
          <p:nvPr/>
        </p:nvGrpSpPr>
        <p:grpSpPr>
          <a:xfrm>
            <a:off x="5126040" y="4529160"/>
            <a:ext cx="2987640" cy="1511280"/>
            <a:chOff x="5126040" y="4529160"/>
            <a:chExt cx="2987640" cy="1511280"/>
          </a:xfrm>
        </p:grpSpPr>
        <p:pic>
          <p:nvPicPr>
            <p:cNvPr id="220" name="Прямоугольник 22" descr=""/>
            <p:cNvPicPr/>
            <p:nvPr/>
          </p:nvPicPr>
          <p:blipFill>
            <a:blip r:embed="rId4"/>
            <a:stretch/>
          </p:blipFill>
          <p:spPr>
            <a:xfrm>
              <a:off x="5126040" y="4529160"/>
              <a:ext cx="2987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178600" y="4556160"/>
              <a:ext cx="288108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Новый подход 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профилактическому леч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40"/>
          <p:cNvSpPr/>
          <p:nvPr/>
        </p:nvSpPr>
        <p:spPr>
          <a:xfrm rot="16200000">
            <a:off x="2655720" y="2320560"/>
            <a:ext cx="561960" cy="761760"/>
          </a:xfrm>
          <a:prstGeom prst="downArrow">
            <a:avLst>
              <a:gd name="adj1" fmla="val 50000"/>
              <a:gd name="adj2" fmla="val 33889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1"/>
          <p:cNvSpPr/>
          <p:nvPr/>
        </p:nvSpPr>
        <p:spPr>
          <a:xfrm rot="16200000">
            <a:off x="6111720" y="2248920"/>
            <a:ext cx="561960" cy="761760"/>
          </a:xfrm>
          <a:prstGeom prst="downArrow">
            <a:avLst>
              <a:gd name="adj1" fmla="val 50000"/>
              <a:gd name="adj2" fmla="val 33889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Соединительная линия уступом 27"/>
          <p:cNvCxnSpPr/>
          <p:nvPr/>
        </p:nvCxnSpPr>
        <p:spPr>
          <a:xfrm flipH="1" rot="16200000">
            <a:off x="6365520" y="3564360"/>
            <a:ext cx="786600" cy="803880"/>
          </a:xfrm>
          <a:prstGeom prst="bentConnector3">
            <a:avLst>
              <a:gd name="adj1" fmla="val 50000"/>
            </a:avLst>
          </a:prstGeom>
          <a:ln w="57240">
            <a:solidFill>
              <a:srgbClr val="993366"/>
            </a:solidFill>
            <a:miter/>
            <a:tailEnd len="med" type="arrow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2"/>
          <p:cNvGraphicFramePr/>
          <p:nvPr/>
        </p:nvGraphicFramePr>
        <p:xfrm>
          <a:off x="3002040" y="2206800"/>
          <a:ext cx="6197400" cy="387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2040" y="2206800"/>
                    <a:ext cx="6197400" cy="38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000" y="236160"/>
            <a:ext cx="7920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75d1"/>
                </a:solidFill>
                <a:latin typeface="Arial"/>
              </a:rPr>
              <a:t>Методы выявления туберкулеза у детей и подростков по 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Объект 7"/>
          <p:cNvGraphicFramePr/>
          <p:nvPr/>
        </p:nvGraphicFramePr>
        <p:xfrm>
          <a:off x="-415800" y="1138320"/>
          <a:ext cx="6543720" cy="48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9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15800" y="1138320"/>
                    <a:ext cx="65437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Box 13"/>
          <p:cNvSpPr/>
          <p:nvPr/>
        </p:nvSpPr>
        <p:spPr>
          <a:xfrm>
            <a:off x="2216880" y="13669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536580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одро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324000" y="61657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4% детей и 58,8% подростков выявлены при иммунодиагностике (массовой и индивидуаль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Л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уберкулез, у вновь выявленного больного вовремя диагностированный, полностью излеч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ечение таких больных полностью бесплатно (для больного) - за счет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03320" y="667800"/>
            <a:ext cx="8712000" cy="61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Держитесь подальше от кашляющ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ребуйте от кашляющего человека прикрывать рот во время кашля или носить медицинскую мас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Избегайте всего, что может ослабить защитные силы Вашего организма и берегите св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облюдайте режим труда, отдыха и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Регулярно занимайтесь спор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Больше находитесь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Не курите, не позволяйте курить другим в Вашем окру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Не злоупотребляйте алкоголем, нарк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Чаще проветривайте помещения, где находитесь (класс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Систематически проводите влажную уборку помещений и никогда не пользуйтесь ве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Пользуйтесь индивидуальной посудой и средствами гиги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Обязательно соблюдайте личную гигиену (мытье рук после возвращения с улицы, из транспорта, из туалета и перед ед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58920" y="-54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Санитарная профил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395280" y="11592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ые оперативные задачи детской фтизиатрической служ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Схема 4" descr=""/>
          <p:cNvPicPr/>
          <p:nvPr/>
        </p:nvPicPr>
        <p:blipFill>
          <a:blip r:embed="rId1"/>
          <a:stretch/>
        </p:blipFill>
        <p:spPr>
          <a:xfrm>
            <a:off x="-122400" y="1047600"/>
            <a:ext cx="92361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ституц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Объект 1"/>
          <p:cNvGrpSpPr/>
          <p:nvPr/>
        </p:nvGrpSpPr>
        <p:grpSpPr>
          <a:xfrm>
            <a:off x="360360" y="1579680"/>
            <a:ext cx="8271000" cy="4565520"/>
            <a:chOff x="360360" y="1579680"/>
            <a:chExt cx="8271000" cy="4565520"/>
          </a:xfrm>
        </p:grpSpPr>
        <p:pic>
          <p:nvPicPr>
            <p:cNvPr id="241" name="Объект 1" descr=""/>
            <p:cNvPicPr/>
            <p:nvPr/>
          </p:nvPicPr>
          <p:blipFill>
            <a:blip r:embed="rId1"/>
            <a:stretch/>
          </p:blipFill>
          <p:spPr>
            <a:xfrm>
              <a:off x="360360" y="1579680"/>
              <a:ext cx="8271000" cy="45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8088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Статья 4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ПРАВО КАЖДОГО ЧЕЛОВЕКА НА ОХРАНУ ЗДОРОВ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Статья 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ПРАВО КАЖДОГО ЧЕЛОВЕКА НА БЛАГОПРИЯТНУЮ ОКРУЖАЮЩУЮ СРЕД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едеральный закон от 30.03.1999 № 52-ФЗ «О санитарно-эпидемиологическом благополучии населе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Объект 1"/>
          <p:cNvGrpSpPr/>
          <p:nvPr/>
        </p:nvGrpSpPr>
        <p:grpSpPr>
          <a:xfrm>
            <a:off x="969840" y="1731960"/>
            <a:ext cx="7351920" cy="4765680"/>
            <a:chOff x="969840" y="1731960"/>
            <a:chExt cx="7351920" cy="4765680"/>
          </a:xfrm>
        </p:grpSpPr>
        <p:pic>
          <p:nvPicPr>
            <p:cNvPr id="245" name="Объект 1" descr=""/>
            <p:cNvPicPr/>
            <p:nvPr/>
          </p:nvPicPr>
          <p:blipFill>
            <a:blip r:embed="rId1"/>
            <a:stretch/>
          </p:blipFill>
          <p:spPr>
            <a:xfrm>
              <a:off x="969840" y="1731960"/>
              <a:ext cx="735192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90720" y="1752480"/>
              <a:ext cx="730872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ff00"/>
                  </a:solidFill>
                  <a:latin typeface="Arial"/>
                </a:rPr>
                <a:t>ст. 10 « каждый гражданин обязан заботиться о здоровье и гигиеническом воспитании своих детей и не осуществлять  действия, влекущие за собой нарушение прав других детей на охрану здоровья и благоприятную среду обитания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едеральный закон от 30.03.1999 № 52-ФЗ «О санитарно-эпидемиологическом благополучи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Объект 1"/>
          <p:cNvGrpSpPr/>
          <p:nvPr/>
        </p:nvGrpSpPr>
        <p:grpSpPr>
          <a:xfrm>
            <a:off x="822240" y="2419200"/>
            <a:ext cx="6980400" cy="3889440"/>
            <a:chOff x="822240" y="2419200"/>
            <a:chExt cx="6980400" cy="3889440"/>
          </a:xfrm>
        </p:grpSpPr>
        <p:pic>
          <p:nvPicPr>
            <p:cNvPr id="249" name="Объект 1" descr=""/>
            <p:cNvPicPr/>
            <p:nvPr/>
          </p:nvPicPr>
          <p:blipFill>
            <a:blip r:embed="rId1"/>
            <a:stretch/>
          </p:blipFill>
          <p:spPr>
            <a:xfrm>
              <a:off x="822240" y="2419200"/>
              <a:ext cx="698040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38080" y="2438280"/>
              <a:ext cx="6948720" cy="38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ff00"/>
                  </a:solidFill>
                  <a:latin typeface="Arial"/>
                </a:rPr>
                <a:t>ст.8 «каждый гражданин Российской Федерации имеют право на благоприятную среду обитания, факторы которой не оказывают вредного воздействия на человека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363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едеральный закон от 21 ноября 2011 г. N 323-ФЗ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"Об основах охраны здоровья граждан в Российской Федер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Объект 1"/>
          <p:cNvGrpSpPr/>
          <p:nvPr/>
        </p:nvGrpSpPr>
        <p:grpSpPr>
          <a:xfrm>
            <a:off x="438120" y="1889280"/>
            <a:ext cx="8261280" cy="4554360"/>
            <a:chOff x="438120" y="1889280"/>
            <a:chExt cx="8261280" cy="4554360"/>
          </a:xfrm>
        </p:grpSpPr>
        <p:pic>
          <p:nvPicPr>
            <p:cNvPr id="253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38120" y="188928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7200" y="190512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 u="sng">
                  <a:solidFill>
                    <a:srgbClr val="ffff00"/>
                  </a:solidFill>
                  <a:uFillTx/>
                  <a:latin typeface="Arial"/>
                </a:rPr>
                <a:t>Статья 18. </a:t>
              </a:r>
              <a:r>
                <a:rPr b="1" lang="ru-RU" sz="2700" spc="-1" strike="noStrike">
                  <a:solidFill>
                    <a:srgbClr val="ffff00"/>
                  </a:solidFill>
                  <a:latin typeface="Arial"/>
                </a:rPr>
                <a:t>Право на охрану здоровь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00"/>
                  </a:solidFill>
                  <a:latin typeface="Arial"/>
                </a:rPr>
                <a:t>1. Каждый имеет право на охрану здоровья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00"/>
                  </a:solidFill>
                  <a:latin typeface="Arial"/>
                </a:rPr>
                <a:t>2. Право на охрану здоровья обеспечивается охраной окружающей среды, созданием безопасных условий труда, благоприятных условий труда, быта, отдыха, воспитания и обучения граждан, производством и реализацией продуктов питания соответствующего качества, качественных, безопасных и доступных лекарственных препаратов, а также оказанием доступной и качественной медицинской помощи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7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едеральный закон от 18 июня 2001 года №77-ФЗ «О предупреждении распространения туберкулеза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Объект 2"/>
          <p:cNvGrpSpPr/>
          <p:nvPr/>
        </p:nvGrpSpPr>
        <p:grpSpPr>
          <a:xfrm>
            <a:off x="822240" y="1962000"/>
            <a:ext cx="7724880" cy="3994200"/>
            <a:chOff x="822240" y="1962000"/>
            <a:chExt cx="7724880" cy="3994200"/>
          </a:xfrm>
        </p:grpSpPr>
        <p:pic>
          <p:nvPicPr>
            <p:cNvPr id="257" name="Объект 2" descr=""/>
            <p:cNvPicPr/>
            <p:nvPr/>
          </p:nvPicPr>
          <p:blipFill>
            <a:blip r:embed="rId1"/>
            <a:stretch/>
          </p:blipFill>
          <p:spPr>
            <a:xfrm>
              <a:off x="822240" y="1962000"/>
              <a:ext cx="7724880" cy="39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38080" y="1981080"/>
              <a:ext cx="769644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п.2 статьи 7  «противотуберкулезная помощь оказывается гражданам при их добровольном обращении или с их согласия и родители или опекуны  вправе отказаться от обследования  ребенка в целях раннего выявления заболевания или инфицирования возбудителем туберкулез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облемы туберкул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/3 населения планеты (более 2 млрд.) инфицирована микобактерией туберкул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Б болеют больше, чем когда либо и  прежде особенно молодых людей , трудоспособ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Б с множественной лекарственной устойчивостью (ТБ-МЛУ) зарегистрирован в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109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н включенных в эпидемиологически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беркулез с широчайшей лекарственной устойчивостью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D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ТБ-ШЛ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ая угроза миру, РФ и 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нитарно-эпидемиологические правила СП 3.1.2. 3114-13 «Профилактика туберку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Объект 1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261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Санитарно-эпидемиологические правила СП 3.1.2.3114-13 «Профилактика туберкулеза» прошли публичные обсуждения, получили положительное заключение Минэкономразвития России  об оценке регулирующего воздействия, зарегистрированы   в Минюсте России 06.05.2014г. № 32182 и обязательны к исполнению как юридическими лицами, так и физическими лица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нитарно-эпидемиологические правила СП 3.1.2. 3114-13 «Профилактика туберку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Объект 1" descr=""/>
          <p:cNvPicPr/>
          <p:nvPr/>
        </p:nvPicPr>
        <p:blipFill>
          <a:blip r:embed="rId1"/>
          <a:stretch/>
        </p:blipFill>
        <p:spPr>
          <a:xfrm>
            <a:off x="585720" y="1554120"/>
            <a:ext cx="7772400" cy="429732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 вниз 3"/>
          <p:cNvSpPr/>
          <p:nvPr/>
        </p:nvSpPr>
        <p:spPr>
          <a:xfrm>
            <a:off x="3863880" y="2057400"/>
            <a:ext cx="484200" cy="762120"/>
          </a:xfrm>
          <a:prstGeom prst="downArrow">
            <a:avLst>
              <a:gd name="adj1" fmla="val 78611"/>
              <a:gd name="adj2" fmla="val 500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низ 4"/>
          <p:cNvSpPr/>
          <p:nvPr/>
        </p:nvSpPr>
        <p:spPr>
          <a:xfrm>
            <a:off x="3868560" y="3809880"/>
            <a:ext cx="484200" cy="6858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нитарно-эпидемиологические правила СП 3.1.2. 3114-13 «Профилактика туберкулез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Объект 1"/>
          <p:cNvGrpSpPr/>
          <p:nvPr/>
        </p:nvGrpSpPr>
        <p:grpSpPr>
          <a:xfrm>
            <a:off x="438120" y="1584360"/>
            <a:ext cx="8261280" cy="4981680"/>
            <a:chOff x="438120" y="1584360"/>
            <a:chExt cx="8261280" cy="4981680"/>
          </a:xfrm>
        </p:grpSpPr>
        <p:pic>
          <p:nvPicPr>
            <p:cNvPr id="269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9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57200" y="1600200"/>
              <a:ext cx="822960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ffff00"/>
                  </a:solidFill>
                  <a:latin typeface="Arial"/>
                </a:rPr>
                <a:t>п</a:t>
              </a: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. 5.7,5.8 Дети и подростки, направленные на консультацию в противотуберкулезный диспансер, родители или законные представители которых не представили в течение 1 месяца с момента постановки пробы Манту заключение фтизиатра об отсутствии заболевания туберкулезом, не допускаются в детские организаци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00"/>
                  </a:solidFill>
                  <a:latin typeface="Arial"/>
                </a:rPr>
                <a:t>Дети, туберкулинодиагностика которым не проводилась, допускаются в детскую организацию при наличии заключения врача-фтизиатра об отсутствии заболева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90835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 3.1.2.3114-13 «Профилактика туберку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15680" y="1331640"/>
            <a:ext cx="803268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территорию очага включается не только квартира, в которой проживает больной туберкулезом, но и лестничная клетка, подъезд дома и группа близлежащих домов, объединенных общим дв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ичное эпидемиологическое обследование  таких очагов необходимо осуществлять при обязательном участии эпидемиолога ФБУЗ «Центр гигиены и эпидемиологии в Республике Татарстан» с дальнейшей разработкой комплекса санитарно-противоэпидемических мероприя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4"/>
          <p:cNvSpPr/>
          <p:nvPr/>
        </p:nvSpPr>
        <p:spPr>
          <a:xfrm>
            <a:off x="600120" y="1332000"/>
            <a:ext cx="7921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9060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Приказ МЗ РФ №951 от 29.12.2014 «Об утверждении методических рекомендаций по совершенствованию диагностики и лечения туберкулеза органов дых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ановление Главного государственного санитарного врача РФ от 22 октября 2013г. №60 «Об утверждении санитарно-эпидемиологических правил СП 3.1.2.3114-13 «Профилактика туберкулеза»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регистрировано в Минюсте РФ 6 мая 2014г. За №321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каз МЗ РФ №125н от 21.03.2014г. «Об утверждении национального календаря профилактических приви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каз МЗ РТ от 12.05.2015 № 855 «Об организации профилактики туберкулеза у ВИЧ-инфицированных и детей, рожденных от ВИЧ-инфицированных матер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4356000" y="620640"/>
            <a:ext cx="4572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арл Людвиг Берне)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258920" y="393372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Берегите сво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539640" y="4876920"/>
            <a:ext cx="82296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1692360" y="380880"/>
            <a:ext cx="507672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713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уберкулез сегодня остается  наиболее распространенной болезнью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В настоящее время в мире около 15 млн человек больны туберкулёзом, из них 11 млн — в трудоспособном возра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Около трети жителей нашей планеты инфицированы микобактерией туберкулё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На планете каждую секунду туберкулезную инфекцию получает один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b6bc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Times New Roman"/>
              </a:rPr>
              <a:t>Каждую минуту в мире от туберкулеза умирают 3 человека. Каждый час в мире погибают свыше 200 больных. Каждый день на планете туберкулез уносит 5 тысяч жизней. Ежегодно погибают от 1,5 до 2 млн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Ежегодно в РФ от различных форм туберкулеза умирают около 30 тысяч граждан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аждый год регистрируется 18 тысяч новых бо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аждый четвертый из умирающих взрослых погибает от заболе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звание болезни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«туберкулез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сходи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 –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пецифической гранулем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чага хронического воспалени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который  выглядит как небольшо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угоро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ат.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uberculum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ов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туберкул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первые употребил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XVI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веке Ф.Сильвий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при описании поражений легких у детей, умерших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ахотки (греч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htisis –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истощение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качестве самостоятельного понятия термин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туберкулез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тали использов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век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сле того, как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.Бейль и Р.Лаэнне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доказали, чт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туберкуло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является непременным спутником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гадки о заразности туберкулез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зародились в далеком прошлом, но только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1868г. Ж.А. Вильмену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удалось воспроизвести заболевание у животных при заражении мокротой от больных туберкулезом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24 марта 1882г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заседании Берлинского физиологического общества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.Кох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общил о своих исследованиях по этиологии туберкулеза: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…в мокроте туберкулезных больных имеются палочки, которые по тинкториальным свойствам и росту на питательных средах отличаются от всех известных бактерий, заражение чистыми культурами вызывает туберкулезный процесс у животных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8920" y="259920"/>
            <a:ext cx="482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реш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семир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рганизации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ВОЗ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день, когда немец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рач -микробиол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берт Ко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ъявил о сделанном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крытии возбудителя туберкулеза  отмечаетс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семирный день борьбы с туберкуле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92360" y="5229000"/>
            <a:ext cx="36781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берт Ко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(1843 - 19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Лауреат Нобелевской пре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1" descr="96_2"/>
          <p:cNvPicPr/>
          <p:nvPr/>
        </p:nvPicPr>
        <p:blipFill>
          <a:blip r:embed="rId1"/>
          <a:stretch/>
        </p:blipFill>
        <p:spPr>
          <a:xfrm>
            <a:off x="5076720" y="404640"/>
            <a:ext cx="3888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5508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 1993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ОЗ объявляет ТУБЕРКУЛЁ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национальным бедствием, а д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4 марта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«Всемирным днем борь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 туберкулезом».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5724360" y="620640"/>
            <a:ext cx="34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Хамитов Б Р</cp:lastModifiedBy>
  <dcterms:modified xsi:type="dcterms:W3CDTF">2017-03-28T08:03:07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